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0E2-FE4B-465A-B05F-09321353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645-4F69-4463-AE3A-CD283F50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B7C-01DA-4BC1-A53E-A58E9D03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BBB-9D0E-4AA6-BC25-2C15DB1C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000-24CA-4DB4-BA18-C98503D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B9C-ED91-46C1-8BB6-F0E68928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3E5-12F9-4397-AC1A-CA9EE952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206-2A55-449E-A17D-C17F3BB5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D4E-A946-4C23-8ABB-84E500F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FED-9349-4EEF-81FE-2DBFBD6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6F8-EA69-4E8C-82E2-0A5ECFB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F9E-6B14-47E2-A7C2-2674A347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5DD-6C39-4CE0-B46D-59FDA8C3F9D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4292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7 Spasiteľ zve ť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Pane, idem u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zve 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oď k nemu dne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ným srdco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eť mu n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ú vďak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chválu a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ť mu z lásky po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Pane, idem u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 domov, dieť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,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lá ťa jeho láskav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vie, či zajtra ozve sa z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eškaj už, len p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Pane, idem u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j smelo, blízko je Pán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hriešnych znášal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esti rá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údiacich volá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t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j len, ver a p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40:39Z</dcterms:modified>
  <cp:revision>32</cp:revision>
  <dc:subject/>
  <dc:title>Je veľký náš Pán, on slávy je Kráľ Nech do všetkých strán  spev vrúcnych znie chvál.</dc:title>
</cp:coreProperties>
</file>